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77D-7BEE-4BA5-B947-FE151213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A23-3243-4F4E-9927-2E75AAFF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EB4-54E9-448C-A010-D5C4D944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393-A5A8-44B7-904F-60D10AEC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29F2-BFF1-43B1-ACF6-6EEB2EC1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F14-74CC-4B49-9137-A19CC292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AB9-FC81-4A21-861B-6E0503FA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E56F-923A-424A-8725-E5C3A542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14E-2FF7-44B6-9531-3B699BD8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059-4998-4E64-B167-40626EB6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56A-3FA2-4DA9-B551-668944E3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6128-D76B-4763-8240-E20AD605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2FE8-5023-4B2D-9F98-128C4641EDA6}" type="slidenum">
              <a:rPr b="0" lang="en-US" sz="14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4.pct"/><Relationship Id="rId4" Type="http://schemas.openxmlformats.org/officeDocument/2006/relationships/image" Target="../media/image11.pct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924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Dark Reaction - also known as the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alvin Cyc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Glucose (C6H12O6) is mad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absorbs carbon dioxide from th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ir and combines it with hydrogen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rom the light reaction (ATP mad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uring light reaction provides the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nergy for this process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1. b. converts light energy to stored chemical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energy in the bonds of carbohydrate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molecules (sugars &amp; starche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. occurs all day and for a short time into the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ark - as long as there is ATP an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ADP.H2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. 1.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. excess glucose (soluble) is converte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into an insoluble starch for storage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(more stable) - mainly in the seeds &amp;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oot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7162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V. Additional Information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When photosynthesis has stopped, plants use the process of cellular respiration to break down some of their stored carbohydrates for energy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Plants respire all day long but photosynthesis occurs at a faster rate than respiration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*Consequently, plants give off  oxygen during the day and carbon dioxide at nigh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8040"/>
                </a:solidFill>
                <a:latin typeface="Arial"/>
              </a:rPr>
              <a:t>The End!</a:t>
            </a:r>
            <a:endParaRPr b="0" lang="en-US" sz="7000" spc="-1" strike="noStrike">
              <a:solidFill>
                <a:srgbClr val="00804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.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ccurs in chloroplasts of eukaryotic cell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urpose: To convert light energy into stored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hemical energy (food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 Energy is stored in the bonds of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arbohydrate molecules - sugars &amp;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tarches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.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2. All life is dependent on the energy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xed by pla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Plants are called autotrophs or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ducers because they are able to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ake their own foo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19112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05320" y="419112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172200" y="4191120"/>
            <a:ext cx="2590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lorophyll - traps light energy in the 1st stage of photosynthesis without being permanently changed (catalyst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hlorophyll absorbs all wavelengths (colors) of light except green (and some yellow)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4343400"/>
            <a:ext cx="7543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Accessory Pigment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amples: xanthophylls - yellows; carotene - orange; anthocyanin - red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Purpose: to absorb wavelengths of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ght that are missed by chlorophyl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3880" y="2743200"/>
            <a:ext cx="6324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. Pigment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In the fall, less light and low temperature cause chlorophyll to be damaged.  It breaks down and reveals the other pigments present in the leaf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315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II.  Factors that Affect Photosynthesis Rate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emperatur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mount of Carbon Dioxide Availabl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ntensity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lor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mount of Water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391520" y="3200400"/>
            <a:ext cx="137160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4382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038480" y="5029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638680" y="5029200"/>
            <a:ext cx="1524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Light Reaction - occurs only in the presence of ligh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3352680"/>
            <a:ext cx="5867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cc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40"/>
                </a:solidFill>
                <a:latin typeface="Arial"/>
              </a:rPr>
              <a:t>IV. Stages of Photosynthesis</a:t>
            </a:r>
            <a:endParaRPr b="0" lang="en-US" sz="4400" spc="-1" strike="noStrike">
              <a:solidFill>
                <a:srgbClr val="008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1.  (Water Split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. oxygen goes out into the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atmospher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b. energy from broken bonds picked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up and stored as ATP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c. hydrogen from water (H) attaches to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NADP (a carrier molecule) to prevent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r>
              <a:rPr b="0" lang="en-US" sz="2500" spc="-1" strike="noStrike">
                <a:solidFill>
                  <a:srgbClr val="333333"/>
                </a:solidFill>
                <a:latin typeface="Arial"/>
              </a:rPr>
              <a:t>it from reacting with anything else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6:30:06Z</dcterms:created>
  <dc:creator>Clayton Johns</dc:creator>
  <dc:description/>
  <dc:language>en-US</dc:language>
  <cp:lastModifiedBy>Clayton Johns</cp:lastModifiedBy>
  <dcterms:modified xsi:type="dcterms:W3CDTF">2008-11-11T01:49:15Z</dcterms:modified>
  <cp:revision>3</cp:revision>
  <dc:subject/>
  <dc:title>PHOTOSYNTHESIS</dc:title>
</cp:coreProperties>
</file>